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6386-7FC1-401A-9BE7-F77ED6DE4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64B0-46D4-4F20-BEE1-EFF632574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7318-1943-41B7-AFBC-AC4550E30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4857-7DF8-405B-AEB2-62D6945EC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13C0-B90B-4DB2-9091-854FA2C76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AAE5-D41B-4BE5-9BCF-E1DD86EB4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293B-99C4-404D-A90C-19B031E56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29AA-9FD7-47A0-9816-DF768A64F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95C4-9F01-40ED-B31D-ECCCA794B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1527-D955-4EEF-AE42-23275E1C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8FC3-11DD-425B-A023-57D6838F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54E7-472A-4D0E-9AEF-8D74A8C1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03553-A984-42C2-9A26-548D3CEA1C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3498840"/>
          <a:ext cx="304812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498840"/>
                    <a:ext cx="30481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228600" y="533520"/>
            <a:ext cx="2361960" cy="2285640"/>
            <a:chOff x="228600" y="533520"/>
            <a:chExt cx="2361960" cy="2285640"/>
          </a:xfrm>
        </p:grpSpPr>
        <p:grpSp>
          <p:nvGrpSpPr>
            <p:cNvPr id="44" name=""/>
            <p:cNvGrpSpPr/>
            <p:nvPr/>
          </p:nvGrpSpPr>
          <p:grpSpPr>
            <a:xfrm>
              <a:off x="228600" y="533520"/>
              <a:ext cx="2361600" cy="2220120"/>
              <a:chOff x="228600" y="533520"/>
              <a:chExt cx="2361600" cy="2220120"/>
            </a:xfrm>
          </p:grpSpPr>
          <p:graphicFrame>
            <p:nvGraphicFramePr>
              <p:cNvPr id="45" name=""/>
              <p:cNvGraphicFramePr/>
              <p:nvPr/>
            </p:nvGraphicFramePr>
            <p:xfrm>
              <a:off x="228600" y="533520"/>
              <a:ext cx="1398960" cy="1233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28600" y="533520"/>
                        <a:ext cx="1398960" cy="12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" name=""/>
              <p:cNvGraphicFramePr/>
              <p:nvPr/>
            </p:nvGraphicFramePr>
            <p:xfrm>
              <a:off x="639000" y="740880"/>
              <a:ext cx="1951200" cy="2012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39000" y="740880"/>
                        <a:ext cx="1951200" cy="201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9" name=""/>
            <p:cNvSpPr/>
            <p:nvPr/>
          </p:nvSpPr>
          <p:spPr>
            <a:xfrm>
              <a:off x="228600" y="533520"/>
              <a:ext cx="2361960" cy="228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" name=""/>
          <p:cNvGraphicFramePr/>
          <p:nvPr/>
        </p:nvGraphicFramePr>
        <p:xfrm>
          <a:off x="5410080" y="4114800"/>
          <a:ext cx="1905120" cy="18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4114800"/>
                    <a:ext cx="190512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338640" y="3733920"/>
            <a:ext cx="205740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44496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84760" y="685800"/>
          <a:ext cx="1815840" cy="182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4760" y="685800"/>
                    <a:ext cx="18158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76320" y="3352680"/>
            <a:ext cx="32767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62320" y="3581280"/>
            <a:ext cx="213372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67440" y="3886200"/>
            <a:ext cx="18288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609480"/>
            <a:ext cx="1967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477120" y="808200"/>
          <a:ext cx="2209680" cy="147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808200"/>
                    <a:ext cx="220968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338880" y="685800"/>
            <a:ext cx="25002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371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553080" y="2362320"/>
            <a:ext cx="11430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400440" y="4876920"/>
            <a:ext cx="305280" cy="228600"/>
            <a:chOff x="6400440" y="4876920"/>
            <a:chExt cx="305280" cy="228600"/>
          </a:xfrm>
        </p:grpSpPr>
        <p:sp>
          <p:nvSpPr>
            <p:cNvPr id="66" name=""/>
            <p:cNvSpPr/>
            <p:nvPr/>
          </p:nvSpPr>
          <p:spPr>
            <a:xfrm>
              <a:off x="6400800" y="487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0572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6400440" y="5105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43828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838080"/>
            <a:ext cx="312408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2209680"/>
            <a:ext cx="214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8072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760" y="30492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5640" y="31240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26760" y="36576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6640" y="4572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19320" y="838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066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20:11:25Z</dcterms:created>
  <dc:creator>Tom Fennelly</dc:creator>
  <dc:description/>
  <dc:language>en-US</dc:language>
  <cp:lastModifiedBy>Tom Fennelly</cp:lastModifiedBy>
  <dcterms:modified xsi:type="dcterms:W3CDTF">2005-07-01T16:24:15Z</dcterms:modified>
  <cp:revision>5</cp:revision>
  <dc:subject/>
  <dc:title>PowerPoint Presentation</dc:title>
</cp:coreProperties>
</file>