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86529-B8F5-4DB9-9930-C2105E4AA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684E2-C2C7-4540-8293-73FEB18C6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84FAE-4103-4766-92DC-A445BD59D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C3650-E765-4488-89F9-5BC3DBFDF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84224-9522-497F-BBC2-5D310A95B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344A3-DA94-4C7F-AD76-95FDEF911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F306B-366B-4516-8D71-AA0D89A0C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5C3B9-882F-458C-A223-57D554043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6674B-495F-4CDD-B987-6BA4938DD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BF163-AF14-434C-9CEF-077F94F32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2B051-5239-4E53-BF15-32A2FA66E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C59A0-FCE4-47F0-90BE-14C3A203F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A1F34-BD2D-4FD0-B229-EF43481B6F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png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066680" y="3498840"/>
          <a:ext cx="3048120" cy="1301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3498840"/>
                    <a:ext cx="3048120" cy="130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228600" y="533520"/>
            <a:ext cx="2361960" cy="2285640"/>
            <a:chOff x="228600" y="533520"/>
            <a:chExt cx="2361960" cy="2285640"/>
          </a:xfrm>
        </p:grpSpPr>
        <p:grpSp>
          <p:nvGrpSpPr>
            <p:cNvPr id="44" name=""/>
            <p:cNvGrpSpPr/>
            <p:nvPr/>
          </p:nvGrpSpPr>
          <p:grpSpPr>
            <a:xfrm>
              <a:off x="228600" y="533520"/>
              <a:ext cx="2361600" cy="2220120"/>
              <a:chOff x="228600" y="533520"/>
              <a:chExt cx="2361600" cy="2220120"/>
            </a:xfrm>
          </p:grpSpPr>
          <p:graphicFrame>
            <p:nvGraphicFramePr>
              <p:cNvPr id="45" name=""/>
              <p:cNvGraphicFramePr/>
              <p:nvPr/>
            </p:nvGraphicFramePr>
            <p:xfrm>
              <a:off x="228600" y="533520"/>
              <a:ext cx="1398960" cy="123336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46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228600" y="533520"/>
                        <a:ext cx="1398960" cy="12333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47" name=""/>
              <p:cNvGraphicFramePr/>
              <p:nvPr/>
            </p:nvGraphicFramePr>
            <p:xfrm>
              <a:off x="639000" y="740880"/>
              <a:ext cx="1951200" cy="201276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48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639000" y="740880"/>
                        <a:ext cx="1951200" cy="20127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49" name=""/>
            <p:cNvSpPr/>
            <p:nvPr/>
          </p:nvSpPr>
          <p:spPr>
            <a:xfrm>
              <a:off x="228600" y="533520"/>
              <a:ext cx="2361960" cy="228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50" name=""/>
          <p:cNvGraphicFramePr/>
          <p:nvPr/>
        </p:nvGraphicFramePr>
        <p:xfrm>
          <a:off x="5410080" y="4114800"/>
          <a:ext cx="1905120" cy="1825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410080" y="4114800"/>
                    <a:ext cx="1905120" cy="182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3338640" y="3733920"/>
            <a:ext cx="2057400" cy="1295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29000" y="4449600"/>
            <a:ext cx="36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3884760" y="685800"/>
          <a:ext cx="1815840" cy="182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884760" y="685800"/>
                    <a:ext cx="181584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"/>
          <p:cNvSpPr/>
          <p:nvPr/>
        </p:nvSpPr>
        <p:spPr>
          <a:xfrm>
            <a:off x="976320" y="3352680"/>
            <a:ext cx="3276720" cy="160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262320" y="3581280"/>
            <a:ext cx="213372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167440" y="3886200"/>
            <a:ext cx="1828800" cy="228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9880" y="609480"/>
            <a:ext cx="1967040" cy="19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6477120" y="808200"/>
          <a:ext cx="2209680" cy="14778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477120" y="808200"/>
                    <a:ext cx="2209680" cy="147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"/>
          <p:cNvSpPr/>
          <p:nvPr/>
        </p:nvSpPr>
        <p:spPr>
          <a:xfrm>
            <a:off x="6338880" y="685800"/>
            <a:ext cx="2500200" cy="1676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638680" y="13716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6553080" y="2362320"/>
            <a:ext cx="1143000" cy="1828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6400440" y="4876920"/>
            <a:ext cx="305280" cy="228600"/>
            <a:chOff x="6400440" y="4876920"/>
            <a:chExt cx="305280" cy="228600"/>
          </a:xfrm>
        </p:grpSpPr>
        <p:sp>
          <p:nvSpPr>
            <p:cNvPr id="66" name=""/>
            <p:cNvSpPr/>
            <p:nvPr/>
          </p:nvSpPr>
          <p:spPr>
            <a:xfrm>
              <a:off x="6400800" y="487692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705720" y="48769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6400440" y="510552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2438280" y="10666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057400" y="838080"/>
            <a:ext cx="3124080" cy="320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86000" y="2209680"/>
            <a:ext cx="2142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980720" y="22096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30760" y="30492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35640" y="312408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126760" y="365760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326640" y="45720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1219320" y="8380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447920" y="10666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0666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8T20:11:25Z</dcterms:created>
  <dc:creator>Tom Fennelly</dc:creator>
  <dc:description/>
  <dc:language>en-US</dc:language>
  <cp:lastModifiedBy>Tom Fennelly</cp:lastModifiedBy>
  <dcterms:modified xsi:type="dcterms:W3CDTF">2005-07-01T16:24:15Z</dcterms:modified>
  <cp:revision>5</cp:revision>
  <dc:subject/>
  <dc:title>PowerPoint Presentation</dc:title>
</cp:coreProperties>
</file>